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DEE3F-B305-424D-B944-7E25E1485E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CF6D0-075F-49A7-B7AA-07D2E9B9133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6E87D-526B-4E1A-B4CE-FBC5F2147F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4EC78-233E-4FA8-AAF2-93B315A8E3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CECF3-A511-431C-8E0D-78B0774CC00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8F21-D5E3-4BEF-B0C9-C5B0C916FA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DEA3-19F6-4EAF-A4F0-C8273852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EC30-8B4A-4D3B-B0BC-2B9FB40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1534-86F2-4D63-B799-611DDB28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03E5-28CF-4E13-943A-293E3F77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82F2-1250-419D-978A-27FAFE37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5773-2332-412D-A633-5F3831E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2BC8-C0C9-4403-AEE4-AAF9BEF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7F80-098B-4F04-B98A-EAFBEB9B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FAAC-ABC1-4589-8FE3-052A960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A9D8-7EDF-4032-B0C3-761B921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C4A6-F677-478C-B90C-195519AAE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5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C1C3D-868D-4865-A2CD-925C55C570D1}" type="datetime">
              <a:rPr b="0" lang="pt-BR" sz="18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DF42-0796-4738-A1A7-DEFF4BC3EC8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mailto:aline.souza@fgv.br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5"/>
          <p:cNvSpPr/>
          <p:nvPr/>
        </p:nvSpPr>
        <p:spPr>
          <a:xfrm>
            <a:off x="312840" y="903240"/>
            <a:ext cx="86104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404040"/>
                </a:solidFill>
                <a:latin typeface="Calibri"/>
              </a:rPr>
              <a:t>5º Fórum do Terceiro Set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Marco Regulatório das Organizações da Sociedade Civil: Lei 13.019/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7f7f7f"/>
                </a:solidFill>
                <a:latin typeface="Calibri"/>
              </a:rPr>
              <a:t>Aline G. de So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Calibri"/>
              </a:rPr>
              <a:t>São Paulo – 24.08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Relações Contratuais 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com Poder Púb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3"/>
          <p:cNvSpPr/>
          <p:nvPr/>
        </p:nvSpPr>
        <p:spPr>
          <a:xfrm>
            <a:off x="563400" y="1670040"/>
            <a:ext cx="823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8.666/93: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ratos Administra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116 da Lei 8.666/93: Convên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13.019/2014 (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ROSC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Fomento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OSC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Colabor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Administração Pública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Acordo de Cooperaçã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 sem repasse de recursos financeiros.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ÍBE CONVÊN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existem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Parceria; Contrato de Gestão; Termos de Compromisso Cultu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2. Diagnóstico e históric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e elaboração da lei 13.019/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ta para baixo 20"/>
          <p:cNvSpPr/>
          <p:nvPr/>
        </p:nvSpPr>
        <p:spPr>
          <a:xfrm>
            <a:off x="2058840" y="338148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ta para baixo 20"/>
          <p:cNvSpPr/>
          <p:nvPr/>
        </p:nvSpPr>
        <p:spPr>
          <a:xfrm>
            <a:off x="6307200" y="339732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19"/>
          <p:cNvSpPr/>
          <p:nvPr/>
        </p:nvSpPr>
        <p:spPr>
          <a:xfrm>
            <a:off x="539640" y="1125360"/>
            <a:ext cx="3902040" cy="225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lei específ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Mudanças constantes nas L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Interpretações distint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nalogias indevidas com entes feder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Estoque de prestação de con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19"/>
          <p:cNvSpPr/>
          <p:nvPr/>
        </p:nvSpPr>
        <p:spPr>
          <a:xfrm>
            <a:off x="966960" y="4149720"/>
            <a:ext cx="295272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norm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19"/>
          <p:cNvSpPr/>
          <p:nvPr/>
        </p:nvSpPr>
        <p:spPr>
          <a:xfrm>
            <a:off x="4567320" y="1106640"/>
            <a:ext cx="3978360" cy="2517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dados sistematiz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capacit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lanejamento insuficient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ênfase no controle de 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Dificuldade de adaptação às normas e ao sistema (Siconv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19"/>
          <p:cNvSpPr/>
          <p:nvPr/>
        </p:nvSpPr>
        <p:spPr>
          <a:xfrm>
            <a:off x="5060880" y="4149720"/>
            <a:ext cx="294336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de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5"/>
          <p:cNvSpPr/>
          <p:nvPr/>
        </p:nvSpPr>
        <p:spPr>
          <a:xfrm>
            <a:off x="971640" y="5301360"/>
            <a:ext cx="29527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ntratualiz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6"/>
          <p:cNvSpPr/>
          <p:nvPr/>
        </p:nvSpPr>
        <p:spPr>
          <a:xfrm>
            <a:off x="971640" y="5661720"/>
            <a:ext cx="295272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7"/>
          <p:cNvSpPr/>
          <p:nvPr/>
        </p:nvSpPr>
        <p:spPr>
          <a:xfrm>
            <a:off x="971640" y="6022080"/>
            <a:ext cx="295272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Cert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8"/>
          <p:cNvSpPr/>
          <p:nvPr/>
        </p:nvSpPr>
        <p:spPr>
          <a:xfrm>
            <a:off x="5076720" y="5301360"/>
            <a:ext cx="29149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apacitação e Form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9"/>
          <p:cNvSpPr/>
          <p:nvPr/>
        </p:nvSpPr>
        <p:spPr>
          <a:xfrm>
            <a:off x="5076720" y="5661720"/>
            <a:ext cx="292896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municação e Dissemi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0"/>
          <p:cNvSpPr/>
          <p:nvPr/>
        </p:nvSpPr>
        <p:spPr>
          <a:xfrm>
            <a:off x="5076720" y="6021360"/>
            <a:ext cx="295128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studos e Pesqui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908000" y="1055520"/>
          <a:ext cx="7128000" cy="4573800"/>
        </p:xfrm>
        <a:graphic>
          <a:graphicData uri="http://schemas.openxmlformats.org/drawingml/2006/table">
            <a:tbl>
              <a:tblPr/>
              <a:tblGrid>
                <a:gridCol w="562680"/>
                <a:gridCol w="107280"/>
                <a:gridCol w="529560"/>
                <a:gridCol w="630000"/>
                <a:gridCol w="546840"/>
                <a:gridCol w="63000"/>
                <a:gridCol w="83520"/>
                <a:gridCol w="460440"/>
                <a:gridCol w="107280"/>
                <a:gridCol w="549720"/>
                <a:gridCol w="63360"/>
                <a:gridCol w="556200"/>
                <a:gridCol w="61560"/>
                <a:gridCol w="562320"/>
                <a:gridCol w="561240"/>
                <a:gridCol w="562320"/>
                <a:gridCol w="625320"/>
                <a:gridCol w="495360"/>
              </a:tblGrid>
              <a:tr h="2746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 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ogia imprecisa com LRF :“no que couber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8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s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 exigência para as de Ass. Social .e Saúde c/ registro C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tóri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pra Assistência Social (AS) e saúde (S) c/ registro C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exigência p/ Ass. e Educação c/CEB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de exigência para as de AS; E; S c/ C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enas entre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; não rejeição e até  2 pendê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7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 não reje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 +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AS;S;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gridSpan="11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03 +  a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sistência social (AS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aúde( S); educação (E) e cul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10 + atendimento direto ao público e CEB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E, Meio Amb, Contr. Gestao e C.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cips e pesqui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todos Consórci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esp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de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oleta , vulner. e criança e id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AS e proteção (AS/S – CEBA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extrativismo, manejo floresta (CEBAS – AS, E e 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com exceçõ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 § 3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8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ção de publicização pela 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 gridSpan="10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áusula obrigatória para que o Poder Público retome o bem  no caso de desvio da  final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16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vação obrigató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X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Retângulo 8"/>
          <p:cNvSpPr/>
          <p:nvPr/>
        </p:nvSpPr>
        <p:spPr>
          <a:xfrm>
            <a:off x="187200" y="2711520"/>
            <a:ext cx="164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restação de co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2"/>
          <p:cNvSpPr/>
          <p:nvPr/>
        </p:nvSpPr>
        <p:spPr>
          <a:xfrm>
            <a:off x="444600" y="2031840"/>
            <a:ext cx="135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ontraparti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"/>
          <p:cNvSpPr/>
          <p:nvPr/>
        </p:nvSpPr>
        <p:spPr>
          <a:xfrm>
            <a:off x="444600" y="1357200"/>
            <a:ext cx="144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quipe de trabal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ângulo 8"/>
          <p:cNvSpPr/>
          <p:nvPr/>
        </p:nvSpPr>
        <p:spPr>
          <a:xfrm>
            <a:off x="-396720" y="3068640"/>
            <a:ext cx="223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Subvenções sociai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ntidades destinatá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ângulo 8"/>
          <p:cNvSpPr/>
          <p:nvPr/>
        </p:nvSpPr>
        <p:spPr>
          <a:xfrm>
            <a:off x="185760" y="3645000"/>
            <a:ext cx="164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de capital e auxí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8"/>
          <p:cNvSpPr/>
          <p:nvPr/>
        </p:nvSpPr>
        <p:spPr>
          <a:xfrm>
            <a:off x="-396720" y="414972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Agentes políticos e par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ângulo 8"/>
          <p:cNvSpPr/>
          <p:nvPr/>
        </p:nvSpPr>
        <p:spPr>
          <a:xfrm>
            <a:off x="-396720" y="445464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ublicidade do instru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ângulo 8"/>
          <p:cNvSpPr/>
          <p:nvPr/>
        </p:nvSpPr>
        <p:spPr>
          <a:xfrm>
            <a:off x="-252360" y="474192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Reversão patrimon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8"/>
          <p:cNvSpPr/>
          <p:nvPr/>
        </p:nvSpPr>
        <p:spPr>
          <a:xfrm>
            <a:off x="-252360" y="501660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Tempo de existê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8"/>
          <p:cNvSpPr/>
          <p:nvPr/>
        </p:nvSpPr>
        <p:spPr>
          <a:xfrm>
            <a:off x="-252360" y="522936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apacidade gerencial, operacional e téc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16"/>
          <p:cNvSpPr/>
          <p:nvPr/>
        </p:nvSpPr>
        <p:spPr>
          <a:xfrm>
            <a:off x="4317840" y="549720"/>
            <a:ext cx="47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Mudanças constantes e sobrecarga da 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áfico 3" descr=""/>
          <p:cNvPicPr/>
          <p:nvPr/>
        </p:nvPicPr>
        <p:blipFill>
          <a:blip r:embed="rId1"/>
          <a:stretch/>
        </p:blipFill>
        <p:spPr>
          <a:xfrm>
            <a:off x="176040" y="1279440"/>
            <a:ext cx="8791920" cy="1658880"/>
          </a:xfrm>
          <a:prstGeom prst="rect">
            <a:avLst/>
          </a:prstGeom>
          <a:ln w="0">
            <a:noFill/>
          </a:ln>
        </p:spPr>
      </p:pic>
      <p:sp>
        <p:nvSpPr>
          <p:cNvPr id="166" name="CaixaDeTexto 1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Equipe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5" descr=""/>
          <p:cNvPicPr/>
          <p:nvPr/>
        </p:nvPicPr>
        <p:blipFill>
          <a:blip r:embed="rId2"/>
          <a:stretch/>
        </p:blipFill>
        <p:spPr>
          <a:xfrm>
            <a:off x="109440" y="2865600"/>
            <a:ext cx="8521920" cy="1650960"/>
          </a:xfrm>
          <a:prstGeom prst="rect">
            <a:avLst/>
          </a:prstGeom>
          <a:ln w="0">
            <a:noFill/>
          </a:ln>
        </p:spPr>
      </p:pic>
      <p:sp>
        <p:nvSpPr>
          <p:cNvPr id="168" name="CaixaDeTexto 1"/>
          <p:cNvSpPr/>
          <p:nvPr/>
        </p:nvSpPr>
        <p:spPr>
          <a:xfrm>
            <a:off x="396720" y="270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ir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7" descr=""/>
          <p:cNvPicPr/>
          <p:nvPr/>
        </p:nvPicPr>
        <p:blipFill>
          <a:blip r:embed="rId3"/>
          <a:stretch/>
        </p:blipFill>
        <p:spPr>
          <a:xfrm>
            <a:off x="176040" y="4462560"/>
            <a:ext cx="864396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466560" y="4356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ação de Terc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4"/>
          <p:cNvSpPr/>
          <p:nvPr/>
        </p:nvSpPr>
        <p:spPr>
          <a:xfrm>
            <a:off x="108000" y="550800"/>
            <a:ext cx="892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Remuneração equipe de trabalho - Tratamento nos Minis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(Atos normativos; Editais; Orientaçõ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7380360" y="620640"/>
            <a:ext cx="1249200" cy="717840"/>
            <a:chOff x="7380360" y="620640"/>
            <a:chExt cx="1249200" cy="717840"/>
          </a:xfrm>
        </p:grpSpPr>
        <p:sp>
          <p:nvSpPr>
            <p:cNvPr id="173" name="Retângulo 10"/>
            <p:cNvSpPr/>
            <p:nvPr/>
          </p:nvSpPr>
          <p:spPr>
            <a:xfrm>
              <a:off x="7380360" y="691920"/>
              <a:ext cx="79200" cy="144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tângulo 11"/>
            <p:cNvSpPr/>
            <p:nvPr/>
          </p:nvSpPr>
          <p:spPr>
            <a:xfrm>
              <a:off x="7380360" y="907920"/>
              <a:ext cx="79200" cy="144360"/>
            </a:xfrm>
            <a:prstGeom prst="rect">
              <a:avLst/>
            </a:prstGeom>
            <a:solidFill>
              <a:srgbClr val="ffc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tângulo 12"/>
            <p:cNvSpPr/>
            <p:nvPr/>
          </p:nvSpPr>
          <p:spPr>
            <a:xfrm>
              <a:off x="7380360" y="1123920"/>
              <a:ext cx="79200" cy="144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aixaDeTexto 1"/>
            <p:cNvSpPr/>
            <p:nvPr/>
          </p:nvSpPr>
          <p:spPr>
            <a:xfrm>
              <a:off x="7460640" y="62064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í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aixaDeTexto 1"/>
            <p:cNvSpPr/>
            <p:nvPr/>
          </p:nvSpPr>
          <p:spPr>
            <a:xfrm>
              <a:off x="7460640" y="846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miss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aixaDeTexto 1"/>
            <p:cNvSpPr/>
            <p:nvPr/>
          </p:nvSpPr>
          <p:spPr>
            <a:xfrm>
              <a:off x="7460280" y="1062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"/>
          <p:cNvSpPr/>
          <p:nvPr/>
        </p:nvSpPr>
        <p:spPr>
          <a:xfrm>
            <a:off x="730080" y="7254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a 12" descr=""/>
          <p:cNvPicPr/>
          <p:nvPr/>
        </p:nvPicPr>
        <p:blipFill>
          <a:blip r:embed="rId1"/>
          <a:stretch/>
        </p:blipFill>
        <p:spPr>
          <a:xfrm>
            <a:off x="-244440" y="1487520"/>
            <a:ext cx="7791480" cy="494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1"/>
          <p:cNvSpPr/>
          <p:nvPr/>
        </p:nvSpPr>
        <p:spPr>
          <a:xfrm>
            <a:off x="6300720" y="3147120"/>
            <a:ext cx="273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an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elaboração da lei é reflexo de u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o dialéti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resultado de todas essas premis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ector reto 13"/>
          <p:cNvSpPr/>
          <p:nvPr/>
        </p:nvSpPr>
        <p:spPr>
          <a:xfrm>
            <a:off x="15840" y="476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1"/>
          <p:cNvSpPr/>
          <p:nvPr/>
        </p:nvSpPr>
        <p:spPr>
          <a:xfrm>
            <a:off x="54000" y="-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8064a2"/>
                </a:solidFill>
                <a:latin typeface="Calibri"/>
              </a:rPr>
              <a:t>Por que um novo Marco Regulató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50920" y="6955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imorar  as relações de parceria entre organizações da sociedade civil e poder público, garantind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3635280" y="2190600"/>
            <a:ext cx="5040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 ponto de vista da forma e da natureza jurídica das ONGs, o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rco legal existent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Brasil se caracteriza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suficiência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mprecis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e talvez mesmo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adequaç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daí porque (…) podemos esperar desta CPI (sic) um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balho propositivo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 resultados concretos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Ministro-chefe da Controladoria-Geral da União, Jorge Hage,Relatório final da CPI das ONGs, p. 71, Brasília, out. de 2010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9640" y="2509920"/>
            <a:ext cx="25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A segunda CPI das ONGs, realizada em 2007, concluiu, pela </a:t>
            </a:r>
            <a:r>
              <a:rPr b="1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necessidade de uma nova legis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776680" y="981000"/>
            <a:ext cx="9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ítulo 1"/>
          <p:cNvSpPr/>
          <p:nvPr/>
        </p:nvSpPr>
        <p:spPr>
          <a:xfrm>
            <a:off x="3924360" y="1060560"/>
            <a:ext cx="4751280" cy="474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nclusão da 2ª. CPI das O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3"/>
          <p:cNvSpPr/>
          <p:nvPr/>
        </p:nvSpPr>
        <p:spPr>
          <a:xfrm>
            <a:off x="3419640" y="2049480"/>
            <a:ext cx="0" cy="31082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6"/>
          <p:cNvSpPr/>
          <p:nvPr/>
        </p:nvSpPr>
        <p:spPr>
          <a:xfrm>
            <a:off x="108000" y="36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niciativa da sociedade civ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11280" y="1773360"/>
            <a:ext cx="3744720" cy="3538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Calibri"/>
              </a:rPr>
              <a:t>Plataforma por um Novo Marco Regulatório das Organizações da Sociedade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rticulação de um grupo de organizações e movimentos da sociedade civil, encaminhou documento aos candidatos à Presidência da República contendo reivindicações para o aprimoramento do ambiente institucional vigente sobre as relações de parceria entre o Estado e as OSCs</a:t>
            </a:r>
            <a:r>
              <a:rPr b="0" lang="pt-BR" sz="22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3640" y="1773360"/>
            <a:ext cx="3600720" cy="3568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Eleiçõ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presiden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 então candidata Dilma Rousseff responde ao grupo de organizações e movimentos, </a:t>
            </a:r>
            <a:r>
              <a:rPr b="1" lang="pt-BR" sz="1800" spc="-1" strike="noStrike">
                <a:solidFill>
                  <a:srgbClr val="404040"/>
                </a:solidFill>
                <a:latin typeface="Calibri"/>
              </a:rPr>
              <a:t>assumindo o compromisso </a:t>
            </a: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de, caso eleita, criar um grupo de trabalho com o objetivo de elaborar uma proposta de legislação que atenda às demandas levantadas pe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208680" y="98100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ta para baixo 20"/>
          <p:cNvSpPr/>
          <p:nvPr/>
        </p:nvSpPr>
        <p:spPr>
          <a:xfrm rot="16200000">
            <a:off x="4507560" y="31327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3"/>
          <p:cNvSpPr/>
          <p:nvPr/>
        </p:nvSpPr>
        <p:spPr>
          <a:xfrm>
            <a:off x="6715080" y="20520"/>
            <a:ext cx="23576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ítulo 1"/>
          <p:cNvSpPr/>
          <p:nvPr/>
        </p:nvSpPr>
        <p:spPr>
          <a:xfrm>
            <a:off x="4427640" y="981000"/>
            <a:ext cx="439236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24000" y="1974960"/>
            <a:ext cx="3887640" cy="2654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rupo de Trabalho Interministerial (GTI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tituído pelo Decreto no. 7.568/2011 com a finalidade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valiar, rever e propor aperfeiçoamentos na legislação federal que rege a parceria entre Estado e Organizações da Sociedade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859280" y="1982880"/>
            <a:ext cx="3960720" cy="39646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 Seminário Internacional do MROS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moveu a discussão sobre o arcabouço legal e levantou desafios e propostas sobre o tema. A produção foi reunida em um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com 50 propostas orientadoras para o GTI, divididos nos eix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79646"/>
                </a:solidFill>
                <a:latin typeface="Calibri"/>
              </a:rPr>
              <a:t>CONTRATU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STENTABILIDADE ECONÔ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ERTIF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381120" y="90792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ta para baixo 20"/>
          <p:cNvSpPr/>
          <p:nvPr/>
        </p:nvSpPr>
        <p:spPr>
          <a:xfrm rot="16200000">
            <a:off x="4363200" y="31201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468360" y="1735200"/>
          <a:ext cx="8207280" cy="3281400"/>
        </p:xfrm>
        <a:graphic>
          <a:graphicData uri="http://schemas.openxmlformats.org/drawingml/2006/table">
            <a:tbl>
              <a:tblPr/>
              <a:tblGrid>
                <a:gridCol w="4281480"/>
                <a:gridCol w="1984320"/>
                <a:gridCol w="1941480"/>
              </a:tblGrid>
              <a:tr h="298440">
                <a:tc rowSpan="2">
                  <a:txBody>
                    <a:bodyPr lIns="10800" rIns="10800" tIns="0" bIns="0" anchor="ctr">
                      <a:noAutofit/>
                    </a:bodyPr>
                    <a:p>
                      <a:pPr lvl="1"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  <a:ea typeface="MS PGothic"/>
                        </a:rPr>
                        <a:t>ÓRGÃOS DO GOVERNO FED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RGANIZAÇÕES DA SOCIEDADE CIV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itul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uplen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Secretaria-Geral da Presidência da Repúblic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ABO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.Instituto Eth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Casa Civil da Presidência da Repúbl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GIF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.APE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ontrolador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LAI-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.Cáritas Brasilei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Advocac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CEBR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1.Visão Mund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Ministério da Justi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Fundação Esquel 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2.INES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Ministério do Planejamento, Orçamento e Gest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UNICAF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3.I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Ministério da Fazen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CONCRA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4.FENAPA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ítulo 1"/>
          <p:cNvSpPr/>
          <p:nvPr/>
        </p:nvSpPr>
        <p:spPr>
          <a:xfrm>
            <a:off x="4356000" y="981000"/>
            <a:ext cx="431964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mposição do 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0" y="13953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Breve retrato das OSCs e relação com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0" y="2235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Diagnóstico e  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506412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Desafios 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0" y="4116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Como está organizada  a Lei 13.019/201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31827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Principais mudanças para OSCs e Adm.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Minuta de projeto de 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68360" y="1895400"/>
            <a:ext cx="3456000" cy="3448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conteúdos elaborados pelo GT fora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scutidos em reuniões bilater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ministérios de atuação finalística (MDS, MEC, Minc, MTE, MSaúde, etc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o todos,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ais de 250 gestores públic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ram ouvidos e contribuíram com as prop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8680" y="93024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ta para baixo 20"/>
          <p:cNvSpPr/>
          <p:nvPr/>
        </p:nvSpPr>
        <p:spPr>
          <a:xfrm rot="16200000">
            <a:off x="3986280" y="3056040"/>
            <a:ext cx="357120" cy="239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4643280" y="1916280"/>
            <a:ext cx="3961080" cy="3173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resultado foi elaborada u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nuta de projeto de le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Orientou o desenvolvimento da agenda na Secretaria-Geral da Presidência da Repúb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ubsidiou os projetos de lei em destaque no Congress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6156360" y="2492280"/>
            <a:ext cx="2685960" cy="30805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L 7.168/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elator: 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écio Lima (PT/SC). Aprovado no Plenário da Câmara dos Deputados em 2 de julho de 2014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Lei 13.019/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eta para baixo 20"/>
          <p:cNvSpPr/>
          <p:nvPr/>
        </p:nvSpPr>
        <p:spPr>
          <a:xfrm rot="16200000">
            <a:off x="2746080" y="2788560"/>
            <a:ext cx="187560" cy="2383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http://3.bp.blogspot.com/-mUZgFYFPTPo/UCAlct6pxTI/AAAAAAAAAX4/TR988OXecC8/s1600/logo+camara.jpg"/>
          <p:cNvPicPr/>
          <p:nvPr/>
        </p:nvPicPr>
        <p:blipFill>
          <a:blip r:embed="rId1"/>
          <a:stretch/>
        </p:blipFill>
        <p:spPr>
          <a:xfrm>
            <a:off x="3782880" y="2144880"/>
            <a:ext cx="1230480" cy="34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31640" y="2492280"/>
          <a:ext cx="2124360" cy="2443320"/>
        </p:xfrm>
        <a:graphic>
          <a:graphicData uri="http://schemas.openxmlformats.org/drawingml/2006/table">
            <a:tbl>
              <a:tblPr/>
              <a:tblGrid>
                <a:gridCol w="2124360"/>
              </a:tblGrid>
              <a:tr h="1249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649/20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Sen. Aloysio Nunes (PSDB/SP) – resultado  2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119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o Rollemberg (PSB/D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" descr="Logo do Senado Federal"/>
          <p:cNvPicPr/>
          <p:nvPr/>
        </p:nvPicPr>
        <p:blipFill>
          <a:blip r:embed="rId2"/>
          <a:stretch/>
        </p:blipFill>
        <p:spPr>
          <a:xfrm>
            <a:off x="826920" y="2151000"/>
            <a:ext cx="129708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Seta para baixo 20"/>
          <p:cNvSpPr/>
          <p:nvPr/>
        </p:nvSpPr>
        <p:spPr>
          <a:xfrm rot="16200000">
            <a:off x="5701320" y="2876760"/>
            <a:ext cx="187560" cy="23976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://3.bp.blogspot.com/-mUZgFYFPTPo/UCAlct6pxTI/AAAAAAAAAX4/TR988OXecC8/s1600/logo+camara.jpg"/>
          <p:cNvPicPr/>
          <p:nvPr/>
        </p:nvPicPr>
        <p:blipFill>
          <a:blip r:embed="rId3"/>
          <a:stretch/>
        </p:blipFill>
        <p:spPr>
          <a:xfrm>
            <a:off x="7093080" y="2160720"/>
            <a:ext cx="1230120" cy="347400"/>
          </a:xfrm>
          <a:prstGeom prst="rect">
            <a:avLst/>
          </a:prstGeom>
          <a:ln w="0">
            <a:noFill/>
          </a:ln>
        </p:spPr>
      </p:pic>
      <p:sp>
        <p:nvSpPr>
          <p:cNvPr id="230" name="Título 1"/>
          <p:cNvSpPr/>
          <p:nvPr/>
        </p:nvSpPr>
        <p:spPr>
          <a:xfrm>
            <a:off x="4449600" y="803160"/>
            <a:ext cx="43927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Tramitação no Congress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3/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32000" y="2492280"/>
          <a:ext cx="2303640" cy="36734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1020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3877/20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1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LS 07/2003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26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duardo Barbosa (PSDB/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texto aprovado no Senado foi apensado ao PL 3877/2004 (junto a outros 24 PLs que tramitavam na Câmara relacionados ao tema). O novo substitutivo passou a tramitar como PL n. 7.168/2014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ítulo 1"/>
          <p:cNvSpPr/>
          <p:nvPr/>
        </p:nvSpPr>
        <p:spPr>
          <a:xfrm>
            <a:off x="4449600" y="787320"/>
            <a:ext cx="4586400" cy="5112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dição de medidas provisórias e processo de regula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4/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a 25" descr=""/>
          <p:cNvPicPr/>
          <p:nvPr/>
        </p:nvPicPr>
        <p:blipFill>
          <a:blip r:embed="rId1"/>
          <a:stretch/>
        </p:blipFill>
        <p:spPr>
          <a:xfrm>
            <a:off x="66600" y="1627200"/>
            <a:ext cx="9077400" cy="2811600"/>
          </a:xfrm>
          <a:prstGeom prst="rect">
            <a:avLst/>
          </a:prstGeom>
          <a:ln w="0">
            <a:noFill/>
          </a:ln>
        </p:spPr>
      </p:pic>
      <p:sp>
        <p:nvSpPr>
          <p:cNvPr id="239" name="Retângulo 26"/>
          <p:cNvSpPr/>
          <p:nvPr/>
        </p:nvSpPr>
        <p:spPr>
          <a:xfrm>
            <a:off x="1258920" y="5589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3 set a 1º ou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tângulo 26"/>
          <p:cNvSpPr/>
          <p:nvPr/>
        </p:nvSpPr>
        <p:spPr>
          <a:xfrm>
            <a:off x="3492360" y="5641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8 a 25 mai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Conector de seta reta 28"/>
          <p:cNvCxnSpPr/>
          <p:nvPr/>
        </p:nvCxnSpPr>
        <p:spPr>
          <a:xfrm>
            <a:off x="2195280" y="2781000"/>
            <a:ext cx="1080" cy="266436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cxnSp>
        <p:nvCxnSpPr>
          <p:cNvPr id="242" name="Conector de seta reta 29"/>
          <p:cNvCxnSpPr/>
          <p:nvPr/>
        </p:nvCxnSpPr>
        <p:spPr>
          <a:xfrm>
            <a:off x="4355640" y="2781360"/>
            <a:ext cx="1080" cy="27360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3" name="Rectangle 4"/>
          <p:cNvSpPr/>
          <p:nvPr/>
        </p:nvSpPr>
        <p:spPr>
          <a:xfrm>
            <a:off x="2268360" y="3789360"/>
            <a:ext cx="201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orrogou entrada em vigo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27 jul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4356000" y="378936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8064a2"/>
                </a:solidFill>
                <a:latin typeface="Calibri"/>
              </a:rPr>
              <a:t>Prorrogou entrada em vigor para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23 jan 2016 para União e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1º jan 2017 para Municí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0520" y="3716280"/>
            <a:ext cx="1963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evia entrada em vigor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1o nov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14"/>
          <p:cNvCxnSpPr/>
          <p:nvPr/>
        </p:nvCxnSpPr>
        <p:spPr>
          <a:xfrm>
            <a:off x="6636960" y="2852280"/>
            <a:ext cx="1080" cy="27378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7" name="Rectangle 4"/>
          <p:cNvSpPr/>
          <p:nvPr/>
        </p:nvSpPr>
        <p:spPr>
          <a:xfrm>
            <a:off x="6878520" y="453384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Regulamenta a aplicação da lei para a </a:t>
            </a: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Administração Pública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0" y="2276640"/>
            <a:ext cx="9144000" cy="14346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3. Principais mudanças para OS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38040" y="3220920"/>
            <a:ext cx="75614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VERSO AMPLO DE OS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OSC, independente de possuir qualificação como Uitilidade Pública, Cebas, ou Oscip poderá celebrar parcerias com 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7964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800" spc="-1" strike="noStrike">
                <a:solidFill>
                  <a:srgbClr val="f79646"/>
                </a:solidFill>
                <a:latin typeface="Arial"/>
                <a:ea typeface="MS PGothic"/>
              </a:rPr>
              <a:t>Quem são essas organizaçõ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ções, fundações, organizações religiosas e as sociedades cooperativas que atuam com vulnerabilidade social, cooperativas sociai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MS PGothic"/>
              </a:rPr>
              <a:t>de combate à pobreza e geração de trabalho e r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rt.2º). Não integra o campo da sociedade civil o  Sistema “S” (art.3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4000" y="215568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RANGÊNCIA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mas regras serão válidas em todo 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4000" y="927000"/>
            <a:ext cx="7575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TAMENTO LEGAL ESPECÍ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ação de um regime jurídico próprio para as parcerias entre Estado e organizações da sociedade ci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179280" y="61128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OS INSTRUMENTOS JUR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olíticas públicas com parâmetros consolid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indicadores e formas de avaliação conhecido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utenção de equipamentos de assistência soci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ches e unidades atendimento educacional especial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F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iciativas das próprias organizaçõ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para fomentar projetos e eventos e ampliar o alcance das ações desenvolvidas por parte das organizaçõe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jetos de enfrentamento à violência contra a mulh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xposições de arte, cultura popular,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Acordo de Co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uando a parcer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ão envolver transferência de recursos financei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. O Acordo, em geral, não exige prévia realização de chamamento público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câmbio de conhecimentos e de quadros técnicos e cessão de servid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0920" y="907920"/>
            <a:ext cx="8208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VOS PRINCÍPIOS E DIRETR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Devem orientar a aplicação e interpretação da lei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icipação soci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talecimento da sociedade civi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parência na aplicação dos recurso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stão pública democrátic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lidade, legitimidade, impessoalidade, moralidade, publicidade, economicidade, eficiência e eficácia, já comuns à administração públic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64960" y="3716280"/>
            <a:ext cx="8496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As relações de parceria devem observar, entre outr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priorização do controle de result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cooperação institucional entre os entes federados nas relações com as OSC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transparência e a public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ensibilização e capacitação de gestore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adoção de práticas para coibir a obtenção, individual ou coletiva, de benefícios ou vantagens indevi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826920" y="3573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68360" y="1197000"/>
            <a:ext cx="8136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S PARTICIP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Conselhos de Fomento 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ços de discussão sobre a agenda do Marco Regulatório das Organizações da Sociedade Civil em cada ente fed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Manifestação de Interess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l que permite a qualquer pessoa, coletivo ou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stitucionalizada ou não) apresentar projetos à 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ública para que esta avalie se irá realizar um chamamento público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. A proposta a d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ficar a pessoa, o movimento, coletivo ou organização que a apres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car o interesse público envolvido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sentar o diagnóstico da realidade que se quer modif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1"/>
          <p:cNvSpPr/>
          <p:nvPr/>
        </p:nvSpPr>
        <p:spPr>
          <a:xfrm>
            <a:off x="-31680" y="-100080"/>
            <a:ext cx="5369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8064a2"/>
                </a:solidFill>
                <a:latin typeface="Calibri"/>
                <a:ea typeface="Times New Roman"/>
              </a:rPr>
              <a:t>Para quem a lei não se apl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tângulo 12"/>
          <p:cNvSpPr/>
          <p:nvPr/>
        </p:nvSpPr>
        <p:spPr>
          <a:xfrm>
            <a:off x="500040" y="919080"/>
            <a:ext cx="7993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AÚDE: Parcerias celebradas pelo SUS e isenções de programas de incentivo á saúde (Pronas e Prono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atos de gestão (OS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parceria (Oscip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compromisso cultural da Lei Cultura Viva (Pontos de Cultura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istema “S” e entidades de representação federativa (art. 3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sses decorrentes (i) do Programa de Complementação ao Atendimento Educacional Especializado às Pessoas Portadoras de Deficiência - PAED, (ii) do Programa Dinheiro Direto na Escola e (iii) do Programa Nacional de Alimentação Escolar – PN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ixaDeTexto 1"/>
          <p:cNvSpPr/>
          <p:nvPr/>
        </p:nvSpPr>
        <p:spPr>
          <a:xfrm>
            <a:off x="70920" y="44280"/>
            <a:ext cx="69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as organizações devem fazer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14280" y="932040"/>
            <a:ext cx="799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AGIR COM MAIS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a nova lei, o planejamento passa a ser um aspecto essencial nas relações de parceria e a OSC deverá conhecer bem os recursos necessáios para a sua realização, sejam eles humanos, técnicos ou fís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39840" y="2276640"/>
            <a:ext cx="777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INCLUIR NO ESTATUTO SOCIAL</a:t>
            </a:r>
            <a:r>
              <a:rPr b="1" lang="en-US" sz="1800" spc="-1" strike="noStrike">
                <a:solidFill>
                  <a:srgbClr val="f7964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áusulas que indiqu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distribuição de luc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dade de relevância pública e social correspondente a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ência de patrimônio para outra OSC, no caso de dissol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turação de acordo com as Normas Brasileiras de Co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9"/>
          <p:cNvSpPr/>
          <p:nvPr/>
        </p:nvSpPr>
        <p:spPr>
          <a:xfrm>
            <a:off x="412920" y="4149720"/>
            <a:ext cx="752616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3. COMPROVAR TEMPO MÍNIMO DE EXIS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1 ano –Municíp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2 anos -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3 anos – 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11"/>
          <p:cNvSpPr/>
          <p:nvPr/>
        </p:nvSpPr>
        <p:spPr>
          <a:xfrm>
            <a:off x="2843280" y="5299200"/>
            <a:ext cx="56134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*É possível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reduzir esses prazos por ato específico de cada ente na hipótese de nenhuma organização atingi-los (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33, V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e o projeto for executado em rede, o prazo mínimo de existência da OSC responsável pela parceria será de 5 an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Breve retrato das OSCs e relação com as políticas públi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ixaDeTexto 1"/>
          <p:cNvSpPr/>
          <p:nvPr/>
        </p:nvSpPr>
        <p:spPr>
          <a:xfrm>
            <a:off x="73080" y="-27000"/>
            <a:ext cx="868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Arial"/>
              </a:rPr>
              <a:t>O que as organizações devem fazer a partir de ago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50920" y="836640"/>
            <a:ext cx="856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4. DEMONSTRAR EXPERIÊNCIA PRÉ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vantes de atuação em outros projetos, seja com o poder público, com empresas, organismos internacionais ou outros parcei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s de prestações de contas aprovadas, publicações temáticas, relatórios anuais de atividades, comprovação de participação em algum conselho de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24000" y="2637000"/>
            <a:ext cx="806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TER CAPACIDADE TÉCNICA E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senvolver as açõe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368280" y="3429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MANTER ATUALIZADA A REGULARIDADE JURÍDICA E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juríd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tuto Social e todas as suas alterações registradas no Cartório de Registro de Pessoas Juríd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cadastrais no CNPJ atualizados, especialmente em relação ao endere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fis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r as certidões previstas na regulamentação da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24000" y="765000"/>
            <a:ext cx="85690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9646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contas rejeitada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os últimos cinco anos, </a:t>
            </a:r>
            <a:r>
              <a:rPr b="1" lang="en-US" sz="2000" spc="-1" strike="noStrike" u="sng">
                <a:solidFill>
                  <a:srgbClr val="f79646"/>
                </a:solidFill>
                <a:uFillTx/>
                <a:latin typeface="Arial"/>
              </a:rPr>
              <a:t>exceto se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anada a irregularidade que motivou a rejeição e quitados os déb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considerada ou revista a decisão pela rejeiçã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preciação das contas estiver pendente de decisão sobre recurso com efei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b) T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enham contas julgadas irregulare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ou rejeitadas por qualquer Tribunal ou Conselho de Contas, em decisão irrecorrível, nos últimos oito 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sido punida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as seguintes situações</a:t>
            </a: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de participação em licitação e impedimento de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licitar ou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temporária da participação em chamamento público e impedimento de celebrar parcerias, por prazo não superior a dois a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participar em chamamento público ou celebrar parce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ixaDeTexto 1"/>
          <p:cNvSpPr/>
          <p:nvPr/>
        </p:nvSpPr>
        <p:spPr>
          <a:xfrm>
            <a:off x="-484920" y="-27000"/>
            <a:ext cx="805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 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1"/>
          <p:cNvSpPr/>
          <p:nvPr/>
        </p:nvSpPr>
        <p:spPr>
          <a:xfrm>
            <a:off x="-440280" y="-27000"/>
            <a:ext cx="727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17520" y="981000"/>
            <a:ext cx="86407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79646"/>
                </a:solidFill>
                <a:latin typeface="Arial"/>
              </a:rPr>
              <a:t>Que tenha algum dirig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ação de contas julgadas irregula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rejeitadas por Tribunal ou Conselho de Contas de qualquer esfera da Federação, em decisão irrecorrível, nos últimos 8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g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ável por falta gr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inabilitados para o exercício de cargo em comissão ou função de confiança, enquanto durar a inabilitação; e considerads responsável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 de improb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o de Po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do Ministéri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igente de órgão ou entidade da administração pública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ma esfera governamen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qual será celebrada 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765000"/>
            <a:ext cx="865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CONSIDERAR CAPACIDADE TÉCNICA E OPER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r capacidade interna tanto em relaçã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uma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materiais e tecnológic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v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ção dos ges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que adquiram conhecimentos técnicos e disponham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estrutura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o acompanhamento das parcerias e a análise das prestações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33280" y="3808440"/>
            <a:ext cx="7939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REALIZAR CHAMA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r os interessados e apresentar procedimentos claros, objetivos, simplificados e, sempre que possível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roniz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elec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incipalmente em relaçã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Metas a serem alcanç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usto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Indicadores, quantitativos e qualitativos, de avaliação de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ixaDeTexto 14"/>
          <p:cNvSpPr/>
          <p:nvPr/>
        </p:nvSpPr>
        <p:spPr>
          <a:xfrm>
            <a:off x="384120" y="4157640"/>
            <a:ext cx="8505720" cy="18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4. JUSTIFICAR HIPÓTESES DE INEXIG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abilidade de competição, natureza singular do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, ato ou compromisso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endas parlamentar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s que seja identificada a entidade beneficiária, inclusive subvenção soc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316080" y="907920"/>
            <a:ext cx="84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3. JUSTIFICAR CASOS DE DISP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ência decorrente de paralisação ou iminência de paralisação de atividades de relevante interesse público, pelo prazo de até 180 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s de guerra, calamidade pública, grave perturbação da ordem pública ou ameaça à paz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s de proteção a pessoas ameaçadas ou em situação que possa comprometer a sua seguranç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vidades voltadas ou vinculad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ços de edu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úde e assistência social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de que executadas por OSCS previamente credenciad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o órgão gestor da respectiv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5280" y="90792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AGIR COM TRANSPARÊNCIA 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, em seu site na internet, a relação das parcerias celebradas com OSCs e dos respectivos planos de trabalho. As informaçõ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ata de assinatura, identificação do instrumento de parceria 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órgão respons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Nome e CNPJ da O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Descrição d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Valor total e valores liberados, quando for o ca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Situação da prestação de conta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Valor total da remuneração da equipe de trabalho, as funções que seus integrantes desempenham e a remuneração prevista para o respectivo exercício, quando vinculados à execução do objeto e pagos com recursos d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95280" y="55641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PROMOVER FORMAÇÃO E CAPA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ores públicos, organizações e conselheiros de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Como está organizada a Lei nº 13.019/2014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Diagram 24" descr=""/>
          <p:cNvPicPr/>
          <p:nvPr/>
        </p:nvPicPr>
        <p:blipFill>
          <a:blip r:embed="rId1"/>
          <a:stretch/>
        </p:blipFill>
        <p:spPr>
          <a:xfrm>
            <a:off x="36360" y="2279520"/>
            <a:ext cx="8858520" cy="2159280"/>
          </a:xfrm>
          <a:prstGeom prst="rect">
            <a:avLst/>
          </a:prstGeom>
          <a:ln w="0">
            <a:noFill/>
          </a:ln>
        </p:spPr>
      </p:pic>
      <p:cxnSp>
        <p:nvCxnSpPr>
          <p:cNvPr id="303" name="Straight Arrow Connector 25"/>
          <p:cNvCxnSpPr/>
          <p:nvPr/>
        </p:nvCxnSpPr>
        <p:spPr>
          <a:xfrm>
            <a:off x="468000" y="3715920"/>
            <a:ext cx="83491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ítulo 1"/>
          <p:cNvSpPr/>
          <p:nvPr/>
        </p:nvSpPr>
        <p:spPr>
          <a:xfrm>
            <a:off x="0" y="97956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1.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"/>
          <p:cNvSpPr/>
          <p:nvPr/>
        </p:nvSpPr>
        <p:spPr>
          <a:xfrm>
            <a:off x="4572000" y="765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tapa comum tanto à administração pública quanto às organizações da sociedade civil. É a fase mais importante de uma parceri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2"/>
          <p:cNvSpPr/>
          <p:nvPr/>
        </p:nvSpPr>
        <p:spPr>
          <a:xfrm>
            <a:off x="465120" y="2378160"/>
            <a:ext cx="4106880" cy="448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a realidade que será objeto da parceria, devendo ser demonstrado o nexo entre as atividades ou projetos e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e metas e das atividad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visão de receitas e de despes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 de execução das atividades ou dos projetos e de cumprimento das metas a eles atrelad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s parâmetros para aferição das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ções que demandarão pagamento em espécie, quando for o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ângulo 3"/>
          <p:cNvSpPr/>
          <p:nvPr/>
        </p:nvSpPr>
        <p:spPr>
          <a:xfrm>
            <a:off x="5003640" y="2565360"/>
            <a:ext cx="3780000" cy="33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todos os valores referentes a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gamento da equipe de trabal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incluin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es dos impost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ibuições soci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G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éri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écimo-terceiro salári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lários proporcion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bas rescisórias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is encargos so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ângulo 4"/>
          <p:cNvSpPr/>
          <p:nvPr/>
        </p:nvSpPr>
        <p:spPr>
          <a:xfrm>
            <a:off x="465120" y="191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Trabalho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1"/>
          <p:cNvSpPr/>
          <p:nvPr/>
        </p:nvSpPr>
        <p:spPr>
          <a:xfrm>
            <a:off x="1116000" y="1874880"/>
            <a:ext cx="5977080" cy="47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ção orçamentária que autoriza e viabiliza a celebraçã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parceria a ser celebr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, prazos, condições, local e forma de apresentação das propos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 e critérios de seleção e julgamento das propostas (nesta parte, deverá ser apresentada também a metodologia de pontuaçã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 ou teto previsto para a realização do obje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dições para interposição de recurso administrativ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utas dos instrumentos por meio do qual será celebrada 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s de acessibilidade para pessoas com deficiência ou mobilidade reduzida e idosos, de acordo com as características do objeto da parc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hamamento público e edi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6"/>
          <p:cNvSpPr/>
          <p:nvPr/>
        </p:nvSpPr>
        <p:spPr>
          <a:xfrm>
            <a:off x="179280" y="141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ta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Histórico: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2"/>
          <p:cNvSpPr/>
          <p:nvPr/>
        </p:nvSpPr>
        <p:spPr>
          <a:xfrm>
            <a:off x="465120" y="1273320"/>
            <a:ext cx="8288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edemocratiz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garantia dos direito à liberdade de reunião, de criação e de atuação das OSC - anos 80 e 90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articip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Constituição Federal - participação e controle social por OSC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Políticas públicas regulamentadas especialmente na década de 90 (ECA, Telecomunicações, SUS, Lei Rouanet, muitas outras) </a:t>
            </a:r>
            <a:br>
              <a:rPr sz="20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tratualização</a:t>
            </a:r>
            <a:br>
              <a:rPr sz="32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Regulamentação das relações jurídicas de parceria e prestação de serviço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sel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3"/>
          <p:cNvSpPr/>
          <p:nvPr/>
        </p:nvSpPr>
        <p:spPr>
          <a:xfrm>
            <a:off x="250920" y="1700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Órgão colegiado destinado a processar e julgar chamamentos públicos constituído por ato publicado em meio oficial de comunic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ter a participação de pelo menos 1 servidor ocupante de cargo efetivo ou emprego permanente do quadro de pessoal d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contar com o apoio de especialistas e membros de conselhos de políticas públicas setoriais indicados para esta final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4"/>
          <p:cNvSpPr/>
          <p:nvPr/>
        </p:nvSpPr>
        <p:spPr>
          <a:xfrm>
            <a:off x="4843440" y="2276640"/>
            <a:ext cx="3851280" cy="311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eleção das parcerias financiadas com recursos d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s da criança e do adolescente, do idoso, do meio ambiente e de defesa de direitos difu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ntre outros, poderá ser realizada pelos respectiv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gest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m substituição à comissão de seleção prevista na Lei nº 13.019/2014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peitada a legislação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Divulgação d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ângulo 2"/>
          <p:cNvSpPr/>
          <p:nvPr/>
        </p:nvSpPr>
        <p:spPr>
          <a:xfrm>
            <a:off x="360360" y="142092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dital deverá ser amplamente divulgado no site do órgão público, com antecedência mínima de 30 (trinta) dias. Em seguida, observar as seguintes et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Cs apresentam sua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 A administração pública analisa, no mínimo se há adequação: (i) aos objetivos específicos do programa ou da ação objeto da parceria;  (ii) valor de referência estabelecido no cham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 Análise das propostas e julgamento de eventuais recur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 Convocação  da OSC para comprovar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enchimento dos requisitos previs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artigos 33, 34 e 39 da Lei 13.019/201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sta etapa se dá mesmo nos casos em que não houve cham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ítulo 1"/>
          <p:cNvSpPr/>
          <p:nvPr/>
        </p:nvSpPr>
        <p:spPr>
          <a:xfrm>
            <a:off x="3168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3.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ângulo 4"/>
          <p:cNvSpPr/>
          <p:nvPr/>
        </p:nvSpPr>
        <p:spPr>
          <a:xfrm>
            <a:off x="449568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alização das atividades e execução dos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tângulo 1"/>
          <p:cNvSpPr/>
          <p:nvPr/>
        </p:nvSpPr>
        <p:spPr>
          <a:xfrm>
            <a:off x="166680" y="1515960"/>
            <a:ext cx="4572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é permitido pagar com os recursos da parce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tângulo 2"/>
          <p:cNvSpPr/>
          <p:nvPr/>
        </p:nvSpPr>
        <p:spPr>
          <a:xfrm>
            <a:off x="187200" y="2162160"/>
            <a:ext cx="4703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e de trabal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incluir pessoal próprio e todos os encargos sociais, observando que os valo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spondam às atividades previstas no Plano de Trabalho e à qualificação necessária para a função a ser desempenhad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compatíveis com o valor de mercado da região e não superior ao máximo pago pelo Poder Executivo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proporcionais ao tempo de trabalho dedicado à parceria celeb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tângulo 3"/>
          <p:cNvSpPr/>
          <p:nvPr/>
        </p:nvSpPr>
        <p:spPr>
          <a:xfrm>
            <a:off x="166680" y="5780160"/>
            <a:ext cx="465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Custos indire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gua, luz, internet, transporte, aluguel e telefone, bem como remunerações de serviços contábeis e de assessoria juríd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tângulo 5"/>
          <p:cNvSpPr/>
          <p:nvPr/>
        </p:nvSpPr>
        <p:spPr>
          <a:xfrm>
            <a:off x="5459400" y="2013120"/>
            <a:ext cx="3348000" cy="393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não é permitido pagar com os recursos da parcer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xa de administração, de gerência ou similar (não se confunde com os custos indiretos nem com a remuneração de pessoa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stos de finalidade diversa do objeto da parceria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dor ou empregado público, salvo nas hipóteses previstas em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tângulo 1"/>
          <p:cNvSpPr/>
          <p:nvPr/>
        </p:nvSpPr>
        <p:spPr>
          <a:xfrm>
            <a:off x="216000" y="163980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realizar ações de monitoramento e avaliação, o poder público poderá contar com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oio técnico de terceir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legar competências ou até mesmo firmar parcerias com outros órgãos ou entidades que estejam próximos ao local do projeto a ser avali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nálise dos resultados da parceria será descrita em um relatório técnico de monitoramento e avaliação, a ser apresentado à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ângulo 2"/>
          <p:cNvSpPr/>
          <p:nvPr/>
        </p:nvSpPr>
        <p:spPr>
          <a:xfrm>
            <a:off x="4395960" y="3573360"/>
            <a:ext cx="4572000" cy="146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pre que possível o acompanhamento das parcerias com temp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uração maior que um a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rá contar com mais uma ferramenta: 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quisa de satisf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os beneficiá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tângulo 3"/>
          <p:cNvSpPr/>
          <p:nvPr/>
        </p:nvSpPr>
        <p:spPr>
          <a:xfrm>
            <a:off x="4395960" y="1916280"/>
            <a:ext cx="4497120" cy="173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 órgão colegiado que tem por objetivo monitorar e avaliar as parcerias celebradas com organizações da sociedade civil. Terá ao menos  1 membro servidor de carr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tângulo 4"/>
          <p:cNvSpPr/>
          <p:nvPr/>
        </p:nvSpPr>
        <p:spPr>
          <a:xfrm>
            <a:off x="4433760" y="5148360"/>
            <a:ext cx="4572000" cy="91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ecução da parceria também poderá ser acompanhada e fiscalizada pel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de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tângulo 8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Monitoramento 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tângulo 5"/>
          <p:cNvSpPr/>
          <p:nvPr/>
        </p:nvSpPr>
        <p:spPr>
          <a:xfrm>
            <a:off x="160200" y="1335240"/>
            <a:ext cx="844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sta fase, gestores públicos deve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ompanhar e fiscalizar a parcer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ormar ao seu superior hierárquico algum acontecimento que comprometa as atividades ou metas da parceria ou qualquer indício de irregularidade na gestão dos recursos e apontar as providências a serem adotada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parecer de análise da prestação de contas fin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 base no relatório técnico de monitoramento e avaliação e em outros relatóri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ponibilizar materiais e equipamentos tecnológicos necessários às atividades de monitoramento e avali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a nova lei, o gestor também tem a obrigação pessoal d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o parecer técnico e conclusi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Caso as atividades da parceria não sejam realizadas pela organização ou se comprove que não foram bem executadas, a administração pública poderá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tomar os bens públicos que estejam com a OSC parceira; 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Assumir a responsabilidade pela execução do restante do objeto previsto no Plano de Trabalh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*Tais medidas devem ser tomadas para que serviços essenciais à população não sejam interromp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tângulo 9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brigações do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ângulo 1"/>
          <p:cNvSpPr/>
          <p:nvPr/>
        </p:nvSpPr>
        <p:spPr>
          <a:xfrm>
            <a:off x="179280" y="17733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possibilitar que o gestor público avali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mprimento do obj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partir de verificação se as metas previstas foram alcanç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relatório deverá conte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descrição das ativ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projetos desenvolvidos para a realização da parceria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ativo das me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postas e dos resultados alcanç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le, devem ser anexados todos os documentos que comprovem a realização das ações, tais como listas de presença, fotos, vídeo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tângulo 2"/>
          <p:cNvSpPr/>
          <p:nvPr/>
        </p:nvSpPr>
        <p:spPr>
          <a:xfrm>
            <a:off x="5219640" y="2565360"/>
            <a:ext cx="3456000" cy="283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hipótese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cumprimento de met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sultados estabelecidos no Plano de Trabalho, a administração pública pode solicitar que a OSC apresent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latório de execução financeira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a descrição das despesas e receitas reali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6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Foco n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ixaDeTexto 6"/>
          <p:cNvSpPr/>
          <p:nvPr/>
        </p:nvSpPr>
        <p:spPr>
          <a:xfrm>
            <a:off x="684360" y="1844640"/>
            <a:ext cx="68389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lei tamb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e prazo de prescrição em 5 (cinco) anos, contados a partir da data da apresentação da prestação de contas. (art. 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define prestação de contas parcial para as parcerias cujo prazo de duração seja superior a 01 (um) ano (art. 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sibilita que cada ente federado crie suas regras simplificadas de prestação de contas, de acordo com sua realidade e independente do recorte de 600 mil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culta à OSC a solicitação de autorização para a Administração Pública a fim de ressarcir o erário por meio de ações compensatórias (art. 72, §2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ângulo 7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Novos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Desafi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e oportun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1"/>
          <p:cNvSpPr/>
          <p:nvPr/>
        </p:nvSpPr>
        <p:spPr>
          <a:xfrm>
            <a:off x="395280" y="870120"/>
            <a:ext cx="3240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Desaf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uidar para que a aplicação do MROSC não seja uma exce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vitar migração para Contratos de Gestão ou Termos de Parceria, de modo não planej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ângulo 11"/>
          <p:cNvSpPr/>
          <p:nvPr/>
        </p:nvSpPr>
        <p:spPr>
          <a:xfrm>
            <a:off x="4140360" y="855720"/>
            <a:ext cx="45385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Oportunidad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mover debates no município e nos estado de São Paulo sobre a elaboração dos decreto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egulamentadores 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adaptação das legislações loc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laborar com a construção d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térios de seleçã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s OSCs,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dicador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de monitoramento e avali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ortalecer a agenda de participação e fortalecimento da sociedade civil e transparência na utilização dos recursos púb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ixaDeTexto 5"/>
          <p:cNvSpPr/>
          <p:nvPr/>
        </p:nvSpPr>
        <p:spPr>
          <a:xfrm>
            <a:off x="100080" y="45720"/>
            <a:ext cx="8935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  <a:ea typeface="MS PGothic"/>
              </a:rPr>
              <a:t>Desafios e oportun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Imagem 2" descr=""/>
          <p:cNvPicPr/>
          <p:nvPr/>
        </p:nvPicPr>
        <p:blipFill>
          <a:blip r:embed="rId1"/>
          <a:srcRect l="0" t="33161" r="0" b="31467"/>
          <a:stretch/>
        </p:blipFill>
        <p:spPr>
          <a:xfrm>
            <a:off x="0" y="0"/>
            <a:ext cx="9158400" cy="1936800"/>
          </a:xfrm>
          <a:prstGeom prst="rect">
            <a:avLst/>
          </a:prstGeom>
          <a:ln w="0">
            <a:noFill/>
          </a:ln>
        </p:spPr>
      </p:pic>
      <p:sp>
        <p:nvSpPr>
          <p:cNvPr id="367" name="CaixaDeTexto 5"/>
          <p:cNvSpPr/>
          <p:nvPr/>
        </p:nvSpPr>
        <p:spPr>
          <a:xfrm>
            <a:off x="353880" y="2135160"/>
            <a:ext cx="879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Duração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3 a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Parceiros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GIFE + IPEA e suporte União Europe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Objetivos gera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739800" y="3816360"/>
            <a:ext cx="422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dução de conhecimento e alterações regulatórias 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que ampliem a sustentabilidade econômica e política das O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4748040" y="3809880"/>
            <a:ext cx="41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tagonismo das OSCs na defesa de direitos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, redução das desigualdades sociais e fortalecimento da democr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3"/>
          <p:cNvSpPr/>
          <p:nvPr/>
        </p:nvSpPr>
        <p:spPr>
          <a:xfrm>
            <a:off x="250920" y="1197000"/>
            <a:ext cx="866772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osos (art.230) -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família,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a socie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e o Estado têm o dever de amparar as pessoas idos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ções e serviços públicos de saúde (art.198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s ações e serviços públicos de saúde são organizadas de acordo com as seguintes diretriz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   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(…) III -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  <a:ea typeface="MS PGothic"/>
              </a:rPr>
              <a:t>participação da comuni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Educação (art.205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educação, direito de todos e dever do Estado e da família, será promovida e incentivada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com a colaboração da socie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fesa do meio ambiente ecologicamente equilibrado (art.225) </a:t>
            </a: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900" spc="-1" strike="noStrike">
                <a:solidFill>
                  <a:srgbClr val="8064a2"/>
                </a:solidFill>
                <a:latin typeface="Calibri"/>
              </a:rPr>
              <a:t>T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dos têm direito ao meio ambiente ecologicamente equilibrado impondo-se ao Poder Público e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à coletivi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 dever de defendê-lo e preservá- lo para as presentes e futuras geraçõ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0920" y="622440"/>
            <a:ext cx="86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Previsão na </a:t>
            </a:r>
            <a:r>
              <a:rPr b="1" lang="en-US" sz="2200" spc="-1" strike="noStrike">
                <a:solidFill>
                  <a:srgbClr val="8064a2"/>
                </a:solidFill>
                <a:latin typeface="Calibri"/>
              </a:rPr>
              <a:t>CF</a:t>
            </a: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/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aixaDeTexto 5"/>
          <p:cNvSpPr/>
          <p:nvPr/>
        </p:nvSpPr>
        <p:spPr>
          <a:xfrm>
            <a:off x="73080" y="1015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a2653"/>
                </a:solidFill>
                <a:latin typeface="Calibri"/>
              </a:rPr>
              <a:t>Principais a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Resultado de imagem para lupa"/>
          <p:cNvPicPr/>
          <p:nvPr/>
        </p:nvPicPr>
        <p:blipFill>
          <a:blip r:embed="rId1"/>
          <a:stretch/>
        </p:blipFill>
        <p:spPr>
          <a:xfrm>
            <a:off x="865080" y="1000080"/>
            <a:ext cx="1238400" cy="1262160"/>
          </a:xfrm>
          <a:prstGeom prst="rect">
            <a:avLst/>
          </a:prstGeom>
          <a:ln w="0">
            <a:noFill/>
          </a:ln>
        </p:spPr>
      </p:pic>
      <p:sp>
        <p:nvSpPr>
          <p:cNvPr id="372" name="CaixaDeTexto 6"/>
          <p:cNvSpPr/>
          <p:nvPr/>
        </p:nvSpPr>
        <p:spPr>
          <a:xfrm>
            <a:off x="2803680" y="847800"/>
            <a:ext cx="53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Monito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gress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F +  S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13.019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Botão de ação: Informações 8"/>
          <p:cNvSpPr/>
          <p:nvPr/>
        </p:nvSpPr>
        <p:spPr>
          <a:xfrm>
            <a:off x="868320" y="3343320"/>
            <a:ext cx="1157400" cy="1228680"/>
          </a:xfrm>
          <a:custGeom>
            <a:avLst/>
            <a:gdLst>
              <a:gd name="textAreaLeft" fmla="*/ 74880 w 1157400"/>
              <a:gd name="textAreaRight" fmla="*/ 1082520 w 1157400"/>
              <a:gd name="textAreaTop" fmla="*/ 74880 h 1228680"/>
              <a:gd name="textAreaBottom" fmla="*/ 1153800 h 1228680"/>
            </a:gdLst>
            <a:ahLst/>
            <a:rect l="textAreaLeft" t="textAreaTop" r="textAreaRight" b="textAreaBottom"/>
            <a:pathLst>
              <a:path w="21600" h="22930">
                <a:moveTo>
                  <a:pt x="0" y="0"/>
                </a:moveTo>
                <a:lnTo>
                  <a:pt x="21600" y="0"/>
                </a:lnTo>
                <a:lnTo>
                  <a:pt x="21600" y="22930"/>
                </a:lnTo>
                <a:lnTo>
                  <a:pt x="0" y="22930"/>
                </a:lnTo>
                <a:close/>
              </a:path>
              <a:path fill="lightenLess" w="21600" h="229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0">
                <a:moveTo>
                  <a:pt x="21600" y="0"/>
                </a:moveTo>
                <a:lnTo>
                  <a:pt x="21600" y="22930"/>
                </a:lnTo>
                <a:lnTo>
                  <a:pt x="20200" y="21530"/>
                </a:lnTo>
                <a:lnTo>
                  <a:pt x="20200" y="1400"/>
                </a:lnTo>
                <a:close/>
              </a:path>
              <a:path fill="darkenLess" w="21600" h="22930">
                <a:moveTo>
                  <a:pt x="21600" y="22930"/>
                </a:moveTo>
                <a:lnTo>
                  <a:pt x="0" y="22930"/>
                </a:lnTo>
                <a:lnTo>
                  <a:pt x="1400" y="21530"/>
                </a:lnTo>
                <a:lnTo>
                  <a:pt x="20200" y="21530"/>
                </a:lnTo>
                <a:close/>
              </a:path>
              <a:path fill="lighten" w="21600" h="22930">
                <a:moveTo>
                  <a:pt x="0" y="229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0"/>
                </a:lnTo>
                <a:close/>
              </a:path>
              <a:path fill="darken" w="21600" h="22930">
                <a:moveTo>
                  <a:pt x="10800" y="445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30">
                <a:moveTo>
                  <a:pt x="10800" y="483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30">
                <a:moveTo>
                  <a:pt x="8224" y="8889"/>
                </a:moveTo>
                <a:lnTo>
                  <a:pt x="12088" y="8889"/>
                </a:lnTo>
                <a:lnTo>
                  <a:pt x="12088" y="15886"/>
                </a:lnTo>
                <a:lnTo>
                  <a:pt x="13376" y="15886"/>
                </a:lnTo>
                <a:lnTo>
                  <a:pt x="13376" y="16809"/>
                </a:lnTo>
                <a:lnTo>
                  <a:pt x="8224" y="16809"/>
                </a:lnTo>
                <a:lnTo>
                  <a:pt x="8224" y="15886"/>
                </a:lnTo>
                <a:lnTo>
                  <a:pt x="9512" y="15886"/>
                </a:lnTo>
                <a:lnTo>
                  <a:pt x="9512" y="9794"/>
                </a:lnTo>
                <a:lnTo>
                  <a:pt x="8224" y="9794"/>
                </a:lnTo>
                <a:close/>
              </a:path>
            </a:pathLst>
          </a:custGeom>
          <a:noFill/>
          <a:ln w="28440">
            <a:solidFill>
              <a:srgbClr val="0a265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11"/>
          <p:cNvSpPr/>
          <p:nvPr/>
        </p:nvSpPr>
        <p:spPr>
          <a:xfrm>
            <a:off x="2803680" y="3013200"/>
            <a:ext cx="634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Produção de informações, debates e divulg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lementação do MRO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T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centivo às do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undos patrimon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tângulo 3"/>
          <p:cNvSpPr/>
          <p:nvPr/>
        </p:nvSpPr>
        <p:spPr>
          <a:xfrm>
            <a:off x="7812000" y="3987720"/>
            <a:ext cx="647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aixaDeTexto 6"/>
          <p:cNvSpPr/>
          <p:nvPr/>
        </p:nvSpPr>
        <p:spPr>
          <a:xfrm>
            <a:off x="216000" y="230364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64a2"/>
                </a:solidFill>
                <a:latin typeface="Calibri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line.souza@fg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Captura de Tela 2015-08-10 às 10.13.06.png"/>
          <p:cNvPicPr/>
          <p:nvPr/>
        </p:nvPicPr>
        <p:blipFill>
          <a:blip r:embed="rId1"/>
          <a:srcRect l="33" t="3692" r="4242" b="14915"/>
          <a:stretch/>
        </p:blipFill>
        <p:spPr>
          <a:xfrm>
            <a:off x="4140360" y="554040"/>
            <a:ext cx="490536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Espaço Reservado para Conteúdo 2"/>
          <p:cNvSpPr/>
          <p:nvPr/>
        </p:nvSpPr>
        <p:spPr>
          <a:xfrm>
            <a:off x="468360" y="765000"/>
            <a:ext cx="433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324.847 mi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ações e associ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3% no Estado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468360" y="1628640"/>
            <a:ext cx="496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Áreas de at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0,1% Defesa de direitos e interesses dos cidadã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8,5% Religi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2,7% Cultura e recre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0,5% Assistê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471600" y="3255840"/>
            <a:ext cx="4751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2,1 milh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 pessoas com carteira assinad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4,9% dos trabalhadores brasil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33440" y="43275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Calibri"/>
              </a:rPr>
              <a:t>Parcerias federais (2008-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483 parcerias com 3.612 entida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4"/>
          <p:cNvSpPr/>
          <p:nvPr/>
        </p:nvSpPr>
        <p:spPr>
          <a:xfrm>
            <a:off x="5929200" y="5362560"/>
            <a:ext cx="2530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ont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pea/Mapa das OSCs, 201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asfil/IBGE,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iconv, 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1"/>
          <p:cNvSpPr/>
          <p:nvPr/>
        </p:nvSpPr>
        <p:spPr>
          <a:xfrm>
            <a:off x="54000" y="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79646"/>
                </a:solidFill>
                <a:latin typeface="Calibri"/>
              </a:rPr>
              <a:t>Breve retrato das OSCs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: </a:t>
            </a:r>
            <a:r>
              <a:rPr b="1" lang="pt-BR" sz="2600" spc="-1" strike="noStrike">
                <a:solidFill>
                  <a:srgbClr val="7f7f7f"/>
                </a:solidFill>
                <a:latin typeface="Arial"/>
              </a:rPr>
              <a:t>Participação social no Ciclo de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m 5" descr=""/>
          <p:cNvPicPr/>
          <p:nvPr/>
        </p:nvPicPr>
        <p:blipFill>
          <a:blip r:embed="rId1"/>
          <a:stretch/>
        </p:blipFill>
        <p:spPr>
          <a:xfrm>
            <a:off x="2550960" y="2341440"/>
            <a:ext cx="4453200" cy="3308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2227320" y="1498680"/>
            <a:ext cx="4713120" cy="4877280"/>
            <a:chOff x="2227320" y="1498680"/>
            <a:chExt cx="4713120" cy="4877280"/>
          </a:xfrm>
        </p:grpSpPr>
        <p:sp>
          <p:nvSpPr>
            <p:cNvPr id="120" name="TextBox 11"/>
            <p:cNvSpPr/>
            <p:nvPr/>
          </p:nvSpPr>
          <p:spPr>
            <a:xfrm>
              <a:off x="4291200" y="1498680"/>
              <a:ext cx="1051560" cy="77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1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AÇÃO DA AGEN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3071880" y="5764320"/>
              <a:ext cx="1584360" cy="61164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3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IMPLEMENT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4"/>
            <p:cNvSpPr/>
            <p:nvPr/>
          </p:nvSpPr>
          <p:spPr>
            <a:xfrm>
              <a:off x="5121360" y="5741280"/>
              <a:ext cx="148176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4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MONITOR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5739120" y="2340720"/>
              <a:ext cx="120132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5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AVALI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2"/>
            <p:cNvSpPr/>
            <p:nvPr/>
          </p:nvSpPr>
          <p:spPr>
            <a:xfrm>
              <a:off x="2227320" y="2247480"/>
              <a:ext cx="1635840" cy="94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2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ULAÇÃO E TOMADA DE DECIS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089160" y="1258920"/>
            <a:ext cx="5659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mora 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áter democrático e descentralizado da administração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mpactando a concepção e a gest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próprio Es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z inovação às politicas públicas: mai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laridade, porosidade territorial e incorporaçã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mecanismos 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nologia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o processo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ulação e execução das polític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g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s perto dos anseios e necessidades da popu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259000"/>
            <a:ext cx="272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o Estado, a 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338640" y="1557360"/>
            <a:ext cx="5227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talece as organizaçõ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onsolidando o campo democrático no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utas da sociedade civil sejam incorporadas na agenda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indo também grupos tradicionalmente marginalizados na pol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ganhos de escal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estratégias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frentamento aos problemas socia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 sua poten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2309760"/>
            <a:ext cx="271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as OSCs, a relação com o Estado n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09:59Z</dcterms:created>
  <dc:creator>Tom Marques</dc:creator>
  <dc:description/>
  <dc:language>en-US</dc:language>
  <cp:lastModifiedBy>User</cp:lastModifiedBy>
  <cp:lastPrinted>2016-05-31T11:14:32Z</cp:lastPrinted>
  <dcterms:modified xsi:type="dcterms:W3CDTF">2017-08-24T17:13:31Z</dcterms:modified>
  <cp:revision>82</cp:revision>
  <dc:subject/>
  <dc:title>PowerPoint Presentation</dc:title>
</cp:coreProperties>
</file>